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B7E-0ED6-4550-A946-E2FC8189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7FB-5347-4F00-AE9E-A5BAADB3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163-D807-45C6-94C2-DAABCCEA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15C-D60F-4153-9373-6C91E11F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B46-F7B0-450E-9DD8-081909AA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2D6-E09D-4185-BBA0-0D5C1121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30B-EC91-4089-8E8E-63E81812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88B-0CA6-4047-84BE-535DA957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084-EE3B-4209-AC58-FBCF5898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F98-7C46-4F5E-87F7-62FC55F8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6D8-F650-49CC-BC1F-63D5FFC7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798-52F3-4F1F-A124-D51CC90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864-362C-48A8-A28F-DA2AC1A4A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rookvaleps.nsw.edu.au/PROJECTS/Aboriginal-Leaders/Pic-Bennelong.jpg&amp;imgrefurl=http://www.brookvaleps.nsw.edu.au/PROJECTS/Aboriginal-Leaders/Bennelong.html&amp;h=453&amp;w=400&amp;sz=35&amp;hl=en&amp;start=3&amp;um=1&amp;tbnid=z2vRThwX757srM:&amp;tbnh=127&amp;tbnw=112&amp;prev=/images%3Fq%3DBennelong%2Bpictures%26um%3D1%26hl%3Den%26safe%3Dstrict%26rls%3Dcom.microsoft:en-au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upload.wikimedia.org/wikipedia/commons/9/93/Bennelong.jpg&amp;imgrefurl=http://commons.wikimedia.org/wiki/Image:Bennelong.jpg&amp;h=600&amp;w=562&amp;sz=31&amp;hl=en&amp;start=2&amp;um=1&amp;tbnid=zlId6m8N3-9iWM:&amp;tbnh=135&amp;tbnw=126&amp;prev=/images%3Fq%3DBennelong%2Bpictures%26um%3D1%26hl%3Den%26safe%3Dstrict%26rls%3Dcom.microsoft:en-au%26sa%3D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9/93/Bennelong.jpg&amp;imgrefurl=http://commons.wikimedia.org/wiki/Image:Bennelong.jpg&amp;h=600&amp;w=562&amp;sz=31&amp;hl=en&amp;start=2&amp;um=1&amp;tbnid=zlId6m8N3-9iWM:&amp;tbnh=135&amp;tbnw=126&amp;prev=/images%3Fq%3DBennelong%2Bpictures%26um%3D1%26hl%3Den%26safe%3Dstrict%26rls%3Dcom.microsoft:en-au%26sa%3D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brookvaleps.nsw.edu.au/PROJECTS/Aboriginal-Leaders/Pic-Bennelong.jpg&amp;imgrefurl=http://www.brookvaleps.nsw.edu.au/PROJECTS/Aboriginal-Leaders/Bennelong.html&amp;h=453&amp;w=400&amp;sz=35&amp;hl=en&amp;start=3&amp;um=1&amp;tbnid=z2vRThwX757srM:&amp;tbnh=127&amp;tbnw=112&amp;prev=/images%3Fq%3DBennelong%2Bpictures%26um%3D1%26hl%3Den%26safe%3Dstrict%26rls%3Dcom.microsoft:en-au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rookvaleps.nsw.edu.au/PROJECTS/Aboriginal-Leaders/Pic-Bennelong.jpg&amp;imgrefurl=http://www.brookvaleps.nsw.edu.au/PROJECTS/Aboriginal-Leaders/Bennelong.html&amp;h=453&amp;w=400&amp;sz=35&amp;hl=en&amp;start=3&amp;um=1&amp;tbnid=z2vRThwX757srM:&amp;tbnh=127&amp;tbnw=112&amp;prev=/images%3Fq%3DBennelong%2Bpictures%26um%3D1%26hl%3Den%26safe%3Dstrict%26rls%3Dcom.microsoft:en-au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upload.wikimedia.org/wikipedia/commons/9/93/Bennelong.jpg&amp;imgrefurl=http://commons.wikimedia.org/wiki/Image:Bennelong.jpg&amp;h=600&amp;w=562&amp;sz=31&amp;hl=en&amp;start=2&amp;um=1&amp;tbnid=zlId6m8N3-9iWM:&amp;tbnh=135&amp;tbnw=126&amp;prev=/images%3Fq%3DBennelong%2Bpictures%26um%3D1%26hl%3Den%26safe%3Dstrict%26rls%3Dcom.microsoft:en-au%26sa%3D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9/93/Bennelong.jpg&amp;imgrefurl=http://commons.wikimedia.org/wiki/Image:Bennelong.jpg&amp;h=600&amp;w=562&amp;sz=31&amp;hl=en&amp;start=2&amp;um=1&amp;tbnid=zlId6m8N3-9iWM:&amp;tbnh=135&amp;tbnw=126&amp;prev=/images%3Fq%3DBennelong%2Bpictures%26um%3D1%26hl%3Den%26safe%3Dstrict%26rls%3Dcom.microsoft:en-au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1280" y="476280"/>
            <a:ext cx="4681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Bennelong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236000" y="602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ozuka Mincho Pro M"/>
              </a:rPr>
              <a:t>By Guled Moham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Portrait of  Bennelong  (1764? - 1813)"/>
          <p:cNvPicPr/>
          <p:nvPr/>
        </p:nvPicPr>
        <p:blipFill>
          <a:blip r:embed="rId1"/>
          <a:stretch/>
        </p:blipFill>
        <p:spPr>
          <a:xfrm>
            <a:off x="3059280" y="2133720"/>
            <a:ext cx="3151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26920" y="2205000"/>
            <a:ext cx="626436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ozuka Mincho Pro L"/>
              </a:rPr>
              <a:t>Bennelong was born 1764 to 18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ozuka Mincho Pro L"/>
              </a:rPr>
              <a:t>Captured 1789 by the British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ozuka Mincho Pro L"/>
              </a:rPr>
              <a:t>They hoped to learn from him the language and customs of Aborigin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Kozuka Mincho Pro L"/>
              </a:rPr>
              <a:t>Their he learnt English and like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40000" y="260280"/>
            <a:ext cx="4681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istory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20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00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411280" y="476280"/>
            <a:ext cx="4681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ow he got famou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2637000"/>
            <a:ext cx="705636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irst Aboriginal to learn to speak Engl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ailed to England to talk to the 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Helped build the Government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He was known as Intelligent, courageous, vain and quick temp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00240" cy="12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0"/>
            <a:ext cx="10666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209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20024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411280" y="476280"/>
            <a:ext cx="46818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ennelongs family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565360"/>
            <a:ext cx="6624720" cy="47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ozuka Mincho Pro 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Kozuka Mincho Pro L"/>
              </a:rPr>
              <a:t>Bennelong was married to Barangar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ozuka Mincho Pro L"/>
              </a:rPr>
              <a:t>His first wife died and had another wife named Gooroobaroobooloo</a:t>
            </a:r>
            <a:r>
              <a:rPr b="0" lang="en-US" sz="2400" spc="-1" strike="noStrike">
                <a:solidFill>
                  <a:srgbClr val="000000"/>
                </a:solidFill>
                <a:latin typeface="Kozuka Mincho Pro 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ozuka Mincho Pro L"/>
              </a:rPr>
              <a:t>Had a daughter named dilboong who died in inf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ozuka Mincho Pro 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00240" cy="12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209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2565360"/>
            <a:ext cx="73436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nnelong Sailed to Sydney, Austra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caught a very bad disease from Brit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was sick in bed for more than a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 died 1813 in bed for a sick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3:06:20Z</dcterms:created>
  <dc:creator>Reservoir District Secondary College</dc:creator>
  <dc:description/>
  <dc:language>en-US</dc:language>
  <cp:lastModifiedBy>Reservoir District Secondary College</cp:lastModifiedBy>
  <dcterms:modified xsi:type="dcterms:W3CDTF">2008-08-21T03:39:27Z</dcterms:modified>
  <cp:revision>2</cp:revision>
  <dc:subject/>
  <dc:title>Slide 1</dc:title>
</cp:coreProperties>
</file>